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DA2-5C3F-496E-8301-7AEA06E4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2F5-1741-4D1C-9D79-F91C3085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227-D052-47B3-8198-7C549A26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3A6-5F53-40AD-9B79-17FAE353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6FD-105C-4A6E-8441-6020AA6F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69E-ED27-4B70-AF33-8C34A1E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B74-7397-4CE4-85CD-329CB3DA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807-AB4A-454C-9620-12DCF13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BCE-F56C-4B3F-81C1-ABFD0E5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E3E-469D-4EFD-B626-4D5D494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4E9-B01F-40B3-99BA-4BD580A0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9F6-712F-4481-B856-4F618FC1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2DB9-A652-4721-89EA-4A94ECC59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rela@terra.com.br" TargetMode="External"/><Relationship Id="rId2" Type="http://schemas.openxmlformats.org/officeDocument/2006/relationships/hyperlink" Target="mailto:rela@terra.com.br" TargetMode="External"/><Relationship Id="rId3" Type="http://schemas.openxmlformats.org/officeDocument/2006/relationships/hyperlink" Target="mailto:ednaldo.mesquita@mma.gov.br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0" y="4343400"/>
            <a:ext cx="9144000" cy="14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Verdana"/>
              </a:rPr>
              <a:t>Painel: Atividades do CNRH e suas Câmaras Técn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Verdana"/>
              </a:rPr>
              <a:t>XVI Simpósio Brasileiro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Verdana"/>
              </a:rPr>
              <a:t>22/11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Verdana"/>
              </a:rPr>
              <a:t>Decio Michellis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1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02 de julho de 2004  - Estabelece a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ara aplicação dos recursos provenientes da cobrança pelo uso de recursos hídricos, para 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xercício de 2005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4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02 de julho de 2004  - Define os valores e os critérios d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obranç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elo uso de recursos hídricos na Bacia Hidrográfica do 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aplicáveis ao usuários do setor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ineração de arei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no leito dos 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8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21 de março de 2005  - Estabelec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ritérios gerais para a cobranç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elo uso dos recursos híd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49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21 de março de 2005 - Estabelece a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para aplicação dos recursos provenientes da cobrança pelo uso de recursos hídricos, para 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xercício de 2006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e dá outras providê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50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de 18 de julho de 2005  - Aprovar os mecanismos e critérios para a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regularização de débit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consolidados referentes à cobrança pelo uso de recursos hídricos de domínio da União na Bacia Hidrográfica do 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0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9 de outubro de 2004 - Manifest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discordânci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com relação às críticas feitas no Relató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"O Estado Real das Águas no Brasil 2003-2004"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(Sinopse) ao modelo de gestão de recursos hídricos preconizado na Lei n° 9.433, de 1997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7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02 de julho de 2004 -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comenda ações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ecorrentes das determinações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soluçã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CNRH n°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5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1° de dezembro de 200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6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março de 2004 - Solicit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rovidências relativas ao não contingenciament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os recursos oriundos da cobrança pelo uso da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Mo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0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junho de 2003 - Recomenda a adoçã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edidas par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o tratamento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ceit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rovenient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da cobranç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elo uso da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MINUTA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Manual de Apoio aos Parlamentares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sobre os Programas do  Ministério do Meio Ambiente na Gestão dos Recursos Hídrico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Desenvolvimento de Programa Institucional 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Gestão Estratégica CTCOB 2005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Monitoramento do Contingenciamento de Recursos "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Criação do GTAAC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- "Grupo de Trabalho de Acompanhamento para Aplicação dos Recursos da Cobrança Pelo Uso dos Recursos Hídrico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Sistema de Gestão de Recursos Hídricos  do Ceará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- Documento de Referência - SRH/CE" - Agosto/200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Clipping (matérias divulgadas sobre "cobrança"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após a aprovação das Resoluções CNRH nºs 48 e 49, em 21/03/05)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O 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 de Lei nº. 1616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s de Lei apensados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ao PL nº. 1616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Projetos de Lei em Tramitação no Congresso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 Nacional Relacionados à Gestão de Recursos Hídricos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GTAAC - "Relatório de Atividades 2005</a:t>
            </a:r>
            <a:r>
              <a:rPr b="1" lang="en-US" sz="25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71800" y="685800"/>
            <a:ext cx="61722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Publicações Técnicas Relatórios Técn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evoluçã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do processo da implementação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da cobranç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pelo uso de recursos hídricos no Brasil em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2 e 2003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Nota Síntese da Oficin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"A cobrança pelo uso da água - fluxos de arrecadação e aplicação dos recurs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rasíli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DF - março/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elatório da Oficin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 "Pacto Federativo e a Convergência da Cobrança pelo uso dos Recursos Hídric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io de Janeir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RJ - mai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1800" y="685800"/>
            <a:ext cx="61722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Publicações Técnicas Estudos Específ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Cobrança pelo Uso da Água e a Compensação Financeira no Setor Hidrelétrico.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elo Horizonte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MG - agost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A cobrança pelo uso da água - fluxos de arrecadação e aplicação dos recurs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Brasília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DF - març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"Pacto Federativo e a Convergência da Cobrança pelo uso dos Recursos Hídricos" -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Rio de Janeiro</a:t>
            </a:r>
            <a:r>
              <a:rPr b="1" lang="en-US" sz="2700" spc="-1" strike="noStrike">
                <a:solidFill>
                  <a:srgbClr val="3333cc"/>
                </a:solidFill>
                <a:latin typeface="Verdana"/>
              </a:rPr>
              <a:t>/RJ - maio de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ifusão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Workshop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1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a Aplicação de Recur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2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artilha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e cobrança (Terminolog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3 Termo de Referência para elaboração do relatório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arc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4 Nota técnica de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Integração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os Instrumentos de 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5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Indicador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 Acompanhamento da 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6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Cobrança das hidrelétrica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, compensação financeira, versus cobrança pelo uso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7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Procedimentos Fluxos Critéri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e Metodologia de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T-8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Fundo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esenvolv.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GT´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9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Convergênci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Cobrança pelos Recursos Hídricos n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0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dequaçã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forma d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Resolu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1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companhamento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implementação da cobrança na Baci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GT-12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GTAAC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- "Grupo de Trabalho de Acompanhamento para Aplicação dos Recursos da Cobrança Pelo Uso dos Recursos Hídricos" (Grupo Tricamerata: CTCOB, CTIL e CTPNRH, com a coordenação dos trabalhos sob a coordenação da CTCOB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GT-13 Cobrança Pelo Uso Dos Recursos Hídricos Frente À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specificidades Regionai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GT-14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etodologia e Critéri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para Formulação da Cobranç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71800" y="533520"/>
            <a:ext cx="617220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Desenvolv. de Metodologias, Tecnologias, Produtos e Processos (</a:t>
            </a:r>
            <a:r>
              <a:rPr b="1" i="1" lang="en-US" sz="2600" spc="-1" strike="noStrike">
                <a:solidFill>
                  <a:srgbClr val="ff0066"/>
                </a:solidFill>
                <a:latin typeface="Verdana"/>
              </a:rPr>
              <a:t>GT´s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Verdana"/>
              </a:rPr>
              <a:t>Desafios &amp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Verdana"/>
              </a:rPr>
              <a:t>Oportunid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COBRANÇ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O que é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2880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Estabeleciment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indicadore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onitoramento das aplicaçõe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os recursos da cobranç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Recomendação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L ou PEC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vis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solucionar os problema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referentes ao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trâmites administrativo-financeir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os recursos oriundos da cobranç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Identificação das bacia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realmente necessitam de cobrança a partir de sua viabilidade de implantaçã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Identificar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formas mais simples de cobrança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que poderão ser aperfeiçoadas no futur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Folder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explicativo apresentando 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missão e os objetivos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 da CTCOB e estabelecimento de uma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ção política integrada a ser coordenada pelo CNRH</a:t>
            </a: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Pacto Federativo e a Cobrança Frente À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specificidades Regiona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1800" y="898560"/>
            <a:ext cx="61722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8000"/>
                </a:solidFill>
                <a:latin typeface="Verdana"/>
              </a:rPr>
              <a:t>Desafios &amp; Oportun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3505320"/>
            <a:ext cx="7772400" cy="32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residente: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 Decio Michellis Jun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decio.michellis@gruporede.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Fone: (11) 3066 14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lator: 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Ednaldo Mesquita Carv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ednaldo.mesquita@mm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Fones: (61) 4009 1809 ou 4009 1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743200" y="1143000"/>
            <a:ext cx="3733920" cy="1565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2880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O art. 19 da Lei no 9.433, de 8 de janeiro de 1997, institui a cobrança pelo uso da água com o objetivo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reconhecê-la como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bem dotado de valor econômic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dar ao usuário uma indicação de seu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real valor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incentivar a racionalizaçã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do seu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obter recursos financeiro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o financiamento dos programas e intervenções, contemplados nos 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7600" y="914400"/>
            <a:ext cx="50292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BRANÇA: O que é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O art. 20 estabelece que serão cobrados os usos sujeitos a outorga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derivação ou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captação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de águ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extração de água de aqüífero subterrâneo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lançamento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em corpo de água de esgotos e resíduos líquidos, com o fim de sua diluição, transporte ou disposição final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aproveitamento dos potenciais hidrelétrico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outros </a:t>
            </a:r>
            <a:r>
              <a:rPr b="1" lang="en-US" sz="2700" spc="-1" strike="noStrike">
                <a:solidFill>
                  <a:srgbClr val="ff0066"/>
                </a:solidFill>
                <a:latin typeface="Verdana"/>
              </a:rPr>
              <a:t>usos que alterem o regime, a quantidade ou a qualidade da água</a:t>
            </a:r>
            <a:r>
              <a:rPr b="1" lang="en-US" sz="2700" spc="-1" strike="noStrike">
                <a:solidFill>
                  <a:srgbClr val="333399"/>
                </a:solidFill>
                <a:latin typeface="Verdana"/>
              </a:rPr>
              <a:t> existente em um corpo de águ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0400" y="914400"/>
            <a:ext cx="59436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BRANÇA: Quem pag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O que faz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CTCOB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por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critérios gerai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nalisar e sugerir, no âmbito das competências do CNRH,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iretrizes complementare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para a implementação e aplicação d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por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iretrizes e ações conjuntas para a integração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e otimização de procedimentos entre as instituições responsáveis pela cobrança pelo uso de recursos hídri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0400" y="762120"/>
            <a:ext cx="5943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MPETÊNCIAS                    </a:t>
            </a: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es. CNRH Nº 21 de 14/03/02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analisar proposta de cobrança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apresentada pelo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Comitê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de Bacias Hidrográfic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avaliar as experiências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em cursos, ou em implementações, dos processos de cobrança pelo uso dos recursos hídricos, considerando procedimentos adotados e resultados obti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 competências constantes do Regimento Interno do CNRH e outras que vierem a ser delegadas pelo seu Plen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0400" y="762120"/>
            <a:ext cx="5943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COMPETÊNCIAS                    </a:t>
            </a: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es. CNRH Nº 21 de 14/03/02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43200" y="1863720"/>
            <a:ext cx="373392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723960" y="2079720"/>
          <a:ext cx="11048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960" y="2079720"/>
                    <a:ext cx="11048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3962520"/>
            <a:ext cx="9144000" cy="2399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Balanço 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Verdana"/>
              </a:rPr>
              <a:t>Ativid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365960" y="2192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27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9 de novembro de 2002  - Define os valores e os critérios de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cobranç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elo uso de recursos hídricos na Bacia Hidrográfic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5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01 de dezembro de 2003 - Estabelece as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rioridades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para aplicação dos recursos oriundos da cobrança pelo uso de recursos hídricos, para 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exercício de 2004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Resolução nº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38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, de 26 de março de 2004 - Delegar competência à Associação Pró-Gestão das Águas da Bacia Hidrográfica do Rio Paraíba do Sul para o exercício de funções e atividades inerentes à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Agência de Água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 da Bacia Hidrográfica do Rio </a:t>
            </a:r>
            <a:r>
              <a:rPr b="1" lang="en-US" sz="2200" spc="-1" strike="noStrike">
                <a:solidFill>
                  <a:srgbClr val="ff0066"/>
                </a:solidFill>
                <a:latin typeface="Verdana"/>
              </a:rPr>
              <a:t>Paraíba do Sul</a:t>
            </a: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895840" cy="121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71800" y="685800"/>
            <a:ext cx="6172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Produção Técnico-Institucional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</a:rPr>
              <a:t>(Com participação direta e indireta da CTC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3:43:45Z</dcterms:created>
  <dc:creator>INVESTCO</dc:creator>
  <dc:description/>
  <dc:language>en-US</dc:language>
  <cp:lastModifiedBy>VPE</cp:lastModifiedBy>
  <cp:lastPrinted>2002-06-27T19:42:28Z</cp:lastPrinted>
  <dcterms:modified xsi:type="dcterms:W3CDTF">2005-11-20T22:02:27Z</dcterms:modified>
  <cp:revision>164</cp:revision>
  <dc:subject/>
  <dc:title>Apresentação do PowerPoint</dc:title>
</cp:coreProperties>
</file>